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5.png" ContentType="image/png"/>
  <Override PartName="/ppt/media/image10.png" ContentType="image/png"/>
  <Override PartName="/ppt/media/image2.png" ContentType="image/png"/>
  <Override PartName="/ppt/media/image3.wmf" ContentType="image/x-wmf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680DEA-6853-48F9-8B08-1D8877526D1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7543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61760" y="3842280"/>
            <a:ext cx="7543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31C00A-B8DB-4649-8177-8CC8E0E5F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61760" y="384228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27440" y="384228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BB211D-6FDE-43EF-BF2D-F836D9115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2360" y="129492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863320" y="129492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61760" y="384228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2360" y="384228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863320" y="384228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84AA97-A15B-43A3-8056-F46BCFA983F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A8247-99F2-47A4-874B-F5D145DB097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761760" y="1294920"/>
            <a:ext cx="75438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4D9A2-BFBB-4026-9363-3944250095E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7543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7E2F9-C6DD-40D4-83A0-1CF2173DC6D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91C5D-27A0-44FA-87D9-AFA348BBCDB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08B0A-4526-43AD-9C5B-61D6CFF9863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29690-0871-4E28-AAF0-45BB982E9E9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761760" y="384228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039B6-4B94-4279-8964-34EEFBDF923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61760" y="1294920"/>
            <a:ext cx="75438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554F96-A4CA-4AA2-939F-9BF3A5758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7440" y="384228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8A7B9-4292-41FA-B427-6CE19C02AB5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761760" y="3842280"/>
            <a:ext cx="7543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43EC5-194E-4AE6-9B30-5600A4287CE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7543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761760" y="3842280"/>
            <a:ext cx="7543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5B5AA-A3F4-4170-80D4-554DF42C663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61760" y="384228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7440" y="384228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A1AEF-9330-48CD-BFB4-B1E7281E308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2360" y="129492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63320" y="129492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761760" y="384228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2360" y="384228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63320" y="384228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67938-0691-4141-A18A-5A1A36B85A72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6CEE0F-947A-463D-BBA0-D4887174E71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761760" y="1294920"/>
            <a:ext cx="75438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31C917-9F7B-4328-9406-4D3AB8DFC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7543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C29419-4BDB-46C5-9991-9BA7AA5A7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29152D-48C7-49E9-A695-3CE85E38E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87DCDC-A057-49F6-9160-F3E8B3C3B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7543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6ED440-C269-4270-9A87-4241626CF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F93BF9-5834-4767-86B7-6F8B8A6B9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761760" y="384228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26D7B1-1FEB-4E39-89FF-EF2F2BB47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27440" y="384228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AB69DC-39DD-4547-8E14-DA8349789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761760" y="3842280"/>
            <a:ext cx="7543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5B5238-6A5E-4714-AC76-4DC753B22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7543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761760" y="3842280"/>
            <a:ext cx="7543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00D4EA-D799-4242-894B-BA91D1B82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761760" y="384228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27440" y="384228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8AC53F-D2A4-4098-94D1-B66D1ED48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312360" y="129492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863320" y="129492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761760" y="384228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312360" y="384228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5863320" y="384228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6EE510-0C4F-4AF4-9FCC-A06371D5DCA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619980-435F-498D-A69B-F8C474CD9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3E78AF-0882-4D5B-BCFC-007A2ACA9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11A32D-C6A0-4D2C-9171-68B5AE5F8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61760" y="384228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5A0D3D-21E1-44DA-908A-80249CD2B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27440" y="384228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54A368-5E05-47C0-AC7B-ECBEA68EC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61760" y="3842280"/>
            <a:ext cx="7543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DA3C35-1C59-4B3E-895A-26A6B0175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380880" y="76320"/>
            <a:ext cx="2590920" cy="10508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61760" y="1294920"/>
            <a:ext cx="7543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2"/>
          </p:nvPr>
        </p:nvSpPr>
        <p:spPr>
          <a:xfrm>
            <a:off x="3429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78BAA-6F3D-4045-B4C2-8E9E5B5B1D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352680" y="380880"/>
            <a:ext cx="495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Profiling Working Gro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219320"/>
            <a:ext cx="9144000" cy="0"/>
          </a:xfrm>
          <a:prstGeom prst="line">
            <a:avLst/>
          </a:prstGeom>
          <a:ln w="5400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44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7620120" y="228600"/>
            <a:ext cx="1295280" cy="69696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3"/>
          <p:cNvSpPr>
            <a:spLocks noGrp="1"/>
          </p:cNvSpPr>
          <p:nvPr>
            <p:ph type="sldNum" idx="3"/>
          </p:nvPr>
        </p:nvSpPr>
        <p:spPr>
          <a:xfrm>
            <a:off x="6915240" y="619416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414A8-A0BC-49CE-969B-8D6218A4B0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88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48370-AD8A-4D4F-BFA7-8300BD9D7AE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7620120" y="228600"/>
            <a:ext cx="1295280" cy="696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761760" y="167652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PWG Update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ad Bo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 Cirro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COT PWG Vice-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f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COPS Mee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January 8, 20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C6B8C6-9EFF-4052-817B-793E9F16D16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2209680" y="411480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0880" y="137160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07 Goals Wrap-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09480" y="1828800"/>
            <a:ext cx="792504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339966"/>
              </a:buClr>
              <a:buFont typeface="Arial"/>
              <a:buChar char="•"/>
              <a:tabLst>
                <a:tab algn="l" pos="793800"/>
                <a:tab algn="l" pos="1190520"/>
                <a:tab algn="l" pos="1587600"/>
                <a:tab algn="l" pos="1984320"/>
                <a:tab algn="l" pos="2381400"/>
                <a:tab algn="l" pos="2778120"/>
                <a:tab algn="l" pos="3174840"/>
                <a:tab algn="l" pos="3571920"/>
                <a:tab algn="l" pos="3968640"/>
                <a:tab algn="l" pos="4365720"/>
                <a:tab algn="l" pos="4762440"/>
                <a:tab algn="l" pos="5159520"/>
                <a:tab algn="l" pos="5556240"/>
                <a:tab algn="l" pos="5952960"/>
                <a:tab algn="l" pos="6350040"/>
                <a:tab algn="l" pos="6746760"/>
                <a:tab algn="l" pos="7143840"/>
                <a:tab algn="l" pos="7540560"/>
                <a:tab algn="l" pos="7937640"/>
                <a:tab algn="l" pos="8334360"/>
              </a:tabLst>
            </a:pPr>
            <a:r>
              <a:rPr b="0" lang="en-US" sz="1800" spc="-1" strike="noStrike">
                <a:solidFill>
                  <a:srgbClr val="339966"/>
                </a:solidFill>
                <a:latin typeface="Arial"/>
              </a:rPr>
              <a:t>2007 Annual Validation.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Done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339966"/>
              </a:buClr>
              <a:buFont typeface="Arial"/>
              <a:buChar char="•"/>
              <a:tabLst>
                <a:tab algn="l" pos="793800"/>
                <a:tab algn="l" pos="1190520"/>
                <a:tab algn="l" pos="1587600"/>
                <a:tab algn="l" pos="1984320"/>
                <a:tab algn="l" pos="2381400"/>
                <a:tab algn="l" pos="2778120"/>
                <a:tab algn="l" pos="3174840"/>
                <a:tab algn="l" pos="3571920"/>
                <a:tab algn="l" pos="3968640"/>
                <a:tab algn="l" pos="4365720"/>
                <a:tab algn="l" pos="4762440"/>
                <a:tab algn="l" pos="5159520"/>
                <a:tab algn="l" pos="5556240"/>
                <a:tab algn="l" pos="5952960"/>
                <a:tab algn="l" pos="6350040"/>
                <a:tab algn="l" pos="6746760"/>
                <a:tab algn="l" pos="7143840"/>
                <a:tab algn="l" pos="7540560"/>
                <a:tab algn="l" pos="7937640"/>
                <a:tab algn="l" pos="8334360"/>
              </a:tabLst>
            </a:pPr>
            <a:r>
              <a:rPr b="0" lang="en-US" sz="1800" spc="-1" strike="noStrike">
                <a:solidFill>
                  <a:srgbClr val="339966"/>
                </a:solidFill>
                <a:latin typeface="Arial"/>
              </a:rPr>
              <a:t>Examine ways to accommodate extreme events in Settlement process.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losed pending the use of Advanced Meters to provide more frequent readings such as daily read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ff0000"/>
              </a:buClr>
              <a:buFont typeface="Arial"/>
              <a:buChar char="•"/>
              <a:tabLst>
                <a:tab algn="l" pos="793800"/>
                <a:tab algn="l" pos="1190520"/>
                <a:tab algn="l" pos="1587600"/>
                <a:tab algn="l" pos="1984320"/>
                <a:tab algn="l" pos="2381400"/>
                <a:tab algn="l" pos="2778120"/>
                <a:tab algn="l" pos="3174840"/>
                <a:tab algn="l" pos="3571920"/>
                <a:tab algn="l" pos="3968640"/>
                <a:tab algn="l" pos="4365720"/>
                <a:tab algn="l" pos="4762440"/>
                <a:tab algn="l" pos="5159520"/>
                <a:tab algn="l" pos="5556240"/>
                <a:tab algn="l" pos="5952960"/>
                <a:tab algn="l" pos="6350040"/>
                <a:tab algn="l" pos="6746760"/>
                <a:tab algn="l" pos="7143840"/>
                <a:tab algn="l" pos="7540560"/>
                <a:tab algn="l" pos="7937640"/>
                <a:tab algn="l" pos="8334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ff0000"/>
              </a:buClr>
              <a:buFont typeface="Arial"/>
              <a:buChar char="•"/>
              <a:tabLst>
                <a:tab algn="l" pos="793800"/>
                <a:tab algn="l" pos="1190520"/>
                <a:tab algn="l" pos="1587600"/>
                <a:tab algn="l" pos="1984320"/>
                <a:tab algn="l" pos="2381400"/>
                <a:tab algn="l" pos="2778120"/>
                <a:tab algn="l" pos="3174840"/>
                <a:tab algn="l" pos="3571920"/>
                <a:tab algn="l" pos="3968640"/>
                <a:tab algn="l" pos="4365720"/>
                <a:tab algn="l" pos="4762440"/>
                <a:tab algn="l" pos="5159520"/>
                <a:tab algn="l" pos="5556240"/>
                <a:tab algn="l" pos="5952960"/>
                <a:tab algn="l" pos="6350040"/>
                <a:tab algn="l" pos="6746760"/>
                <a:tab algn="l" pos="7143840"/>
                <a:tab algn="l" pos="7540560"/>
                <a:tab algn="l" pos="7937640"/>
                <a:tab algn="l" pos="8334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E4890E-318A-4D45-BC9C-E5A35FDC8ED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28600" y="2279520"/>
            <a:ext cx="8763120" cy="382932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380880" y="1371600"/>
            <a:ext cx="8458200" cy="73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Verdana"/>
              </a:rPr>
              <a:t>Initial PWG 2008 Goal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(not ranked by priorit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33A8F8-DE94-4706-8369-CCD0CEAE166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9920" y="1590840"/>
            <a:ext cx="697248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und 2 Sample Point Installation Tracking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cent New Installations as of Dec. 4, 2007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009800" y="2266920"/>
            <a:ext cx="7124400" cy="4057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AB9366-F715-45D6-9A67-1DC93866CBE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9560" y="1423800"/>
            <a:ext cx="6945480" cy="77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und 2 Sample Point Installation Tracking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cent New Installations Plus Retained Sample P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1009800" y="2104920"/>
            <a:ext cx="7124400" cy="4067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BE3661-89FD-4CD0-A851-11CA85995F4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228600" y="1393920"/>
            <a:ext cx="8610480" cy="51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mand Response Upd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R736 is on hold at PRS and LPGRR027 is on hold at PWG until a complete Impact Analysis can be completed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 language in LPGRR027 is being moved to a separat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LPGRR029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Rules and ERCOT Legal said the 150 day notice can not be waived based on current languag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articipants and ERCOT are asked to evaluate how much time is needed to implement system changes so an accurate timeline can be craft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PS formed a Demand Response Task Force DRTF to build requirements for DR Programs by Feb. 2008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RCOT Staff is building a complete list of discussion items and questions for the DRTF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DRTF met last on December 18, 2007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064E48-91F0-498A-BD62-5A04A891CCE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228600" y="1393920"/>
            <a:ext cx="861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t UFE per Interv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685800" y="2438280"/>
            <a:ext cx="7969320" cy="181296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685800" y="4408560"/>
            <a:ext cx="7996320" cy="183996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685800" y="2036880"/>
            <a:ext cx="7945560" cy="325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F2E06C-EAB7-414D-B7DE-34B360981A0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228600" y="1393920"/>
            <a:ext cx="861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bsolute UFE per Interv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685800" y="2036880"/>
            <a:ext cx="7945560" cy="32544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685800" y="2438280"/>
            <a:ext cx="8001000" cy="1824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3"/>
          <a:stretch/>
        </p:blipFill>
        <p:spPr>
          <a:xfrm>
            <a:off x="685800" y="4381560"/>
            <a:ext cx="8001000" cy="1798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B6D82F-AB9D-43C2-99FC-32E8D36803E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2209680" y="411480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137160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981080" y="1981080"/>
            <a:ext cx="4876920" cy="259092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609480" y="4648320"/>
            <a:ext cx="8001000" cy="8254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WG 2008 meeting dates are the 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ednesday of the month through the month of Octo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17C5A7-E4F9-4728-9671-3D26A1CFBDA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1T21:33:53Z</dcterms:created>
  <dc:creator>Administrator</dc:creator>
  <dc:description/>
  <dc:language>en-US</dc:language>
  <cp:lastModifiedBy>epodraza</cp:lastModifiedBy>
  <dcterms:modified xsi:type="dcterms:W3CDTF">2007-12-18T15:01:06Z</dcterms:modified>
  <cp:revision>286</cp:revision>
  <dc:subject/>
  <dc:title>PowerPoint Presentation</dc:title>
</cp:coreProperties>
</file>